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8C8F-3300-4D4F-9ADF-670CDBF43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5C7C-14B2-4AA1-A380-D3F10D2E6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FFCF-2492-415C-9CB9-D7FF9D36B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E883-E2BF-491F-A835-8E7318B49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9C8B1-BFF4-42AB-B877-9509FB6064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4A85E-A2F4-4854-A1B5-2B8E453B42B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13EFD8-7F57-4D37-8F62-3E90080C7CD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776285-1F6B-437A-8CF8-75F5D37DB3C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DBAE78-E672-4D90-9992-79DC6FA1525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18C8F8-29F9-43B8-9C66-0D285499635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6517A2-021B-4143-82E0-1805C6D7110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381AEF-A985-405F-9321-5DDD0D7474F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1408B3-5119-4374-801F-13F38146951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416335-994A-4742-906C-40C56558842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9E1B5B-55B7-44D1-80F0-A9351528A47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3BF920-3177-47D7-8C91-5030621476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4BB25-B78E-42D2-B69D-EC6561F9490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B79BC4-C2AB-4D28-BBB3-B3BDDD28DCD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28A219-DC44-4524-A475-8FD042B7D48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C28A3E-50F3-456A-9D74-85BFEECF6EF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A0EEB2-43D8-4E81-B9D0-82F04A3C5AE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D9C940-0D18-42B2-8618-C6CB1ECA137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4F66BE-6A34-4D10-8D85-828E509CCBE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CC0BEE-E858-4F44-821B-EB9DE1704C1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B735D0-B02C-40A0-A120-C50E4CC34F6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F55F9E-1F2E-41CC-8657-F5B924E011D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05BFFB-B287-4C63-81E3-4030B0A3EC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3BE19-5555-4955-881E-94F4A7506F2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6D16A6-C993-4FC5-B503-FBCCEA97638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2EB15-9E73-4904-ADD3-70B9AA0E8B2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899B3-AEAB-4FEF-96BF-423120766A5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3ECBA-7FDB-48B0-84D0-A1B986BC15D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95219-D452-4752-A6DB-8E980A22969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03483-EAFB-45EF-8C90-A1228429229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58762-3B99-4FA3-BC5A-B870CDCB51F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E5F0E-C200-4530-B546-544B33DE4A5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822B8-F654-4246-9183-E2196042448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9FDD2-3619-46ED-B866-B5481B7ED8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B51F-9487-450E-AE6D-87BB6BAB425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DFD0D-AEE6-4B3C-8B92-8421C142F87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90164-B9E0-4EB8-B71F-5A50DC42530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F6F96-3718-440A-A78C-F91A1AA97E1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75ACB4-C10B-40A5-BBCB-5D0720E7F21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800490-2C37-4B64-9FED-271969BCF8A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1CDE63-3D59-4134-9B84-D0202516574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7415CD-074F-470F-AC61-515E74C2067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075C2C-A25E-4D62-925E-BBEBD1A29DF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9BB9E8-0F3E-48EB-A446-5A5A688EF5C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1483C6-B482-418E-AD8E-C826DF97AD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F5A8-FAC7-4F36-BFBC-8623E069BF1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FB929F-5BD9-4DFB-8A98-2F8D0D3393A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DB0EC2-50B6-4E11-9BB0-9CC53F42AD0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870845-4F5E-4A2B-9BED-FD923F16291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417F15-2987-4ACB-A699-AD57136ACC1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5E7ACE-64E2-4F8A-931D-9AD33BAFE9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9726-F9B4-4725-82A5-D2E9608BDC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23AF-F602-4179-B45A-53A4BD2FCD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946B-82CA-429D-ADBF-B7600F16F6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0B84-A85E-437E-9B81-4DDED14AE7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35CF-B4A6-441D-A437-3397F08794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76110-6B77-49B2-B50C-1B5803BF08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46BB-EA07-43F4-99E6-40C7C5A7D3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4C51-32DF-450B-B81F-1D85C6E5EE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E734-7117-4991-840D-AD5BB2A89F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D44F-278C-4B26-9366-413A45C71E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F23D-9E34-416F-AB40-CF3E919DD4F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CAD1A-EBFD-40C9-BF38-637F15A3E3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E06B5-5372-4C87-B264-661AAFF16F4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04569-002F-4207-86AC-E9D68BB366D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F4668-43AF-4D38-B5BF-6B62426F482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B6539-7238-468F-A28D-43115655D4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CC01D-4D38-4F7E-A654-938FF3EEBBF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2F862-9F93-4EBC-A0DD-5EF3AD60756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9E0D0-AA13-4373-9051-46C7AD1E6C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918F8-D7DD-4C53-A4A4-AF05E7B23F9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D2BA6-D332-42A9-9B32-57B441CBC99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61608-8F4E-4E1D-8B72-B29908E852C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547A6-5783-4D1B-B588-1FF86A762C7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698D5-28D7-492C-BEA6-889EFE048C2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830DE0-634E-40DF-987C-87463B88C92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47856F-079B-4E7F-A893-C679457EE11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426B3D-8D94-4A25-B0E5-98AEB224C8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8B101-A5CF-4B45-9489-58A59016095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AADBF0-CC5D-45F8-8CD9-22DD512E54B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9A0296-D9E4-4765-AC83-5A22E776F1A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B58B1B-544C-4361-81CB-B709E4DEEC6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9E4245-F972-4F87-B159-FBEA098EC23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A5CAAF-2919-4827-A2D4-05B9D634635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9EF550-FB1D-40B4-AEBA-AE9B6EC2655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9F5797-3BBA-496F-A98D-6CAEB4E386E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C95D85-35DB-46B6-9041-D62BC58C0C1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FB97CD-3795-40AF-BA43-DD4B7BDA964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2980C-B604-4B78-A5EF-FDD1E0D26C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C2B8A-DBA3-4307-8D05-5D8708F5FD4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A8E12-F023-4E05-A205-AAF09151399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B67C8-4078-4015-818D-2AB94A8B705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A0A22-9819-4331-9A3C-C4F5C27DE79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40BB1-F1C0-414C-809A-D3D5EAD6CED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7D860-637E-48F8-B31E-EAEC3288600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86803-68E7-4745-A201-5AA3D6C3651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E906F-A14B-4098-8753-0B4D45B0E2C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39029-4C0B-4978-A782-6FF4D9593A3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D1FE9-320C-498C-B67A-BC7342D5444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A5D1A-B180-4563-BA67-CAC44AFF00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C5FD9-0A3E-4ABD-B941-A4A97B11201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AAA3D-28FD-4D56-A43E-0AB3042D9A1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34161A-DBA0-42D7-B9FC-8CB85A3361D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181F54-A15D-46D6-9718-89843976D21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7E4B8C-3BA2-492F-9D35-B20F35249EB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4E7C70-2C7B-4C61-969A-B55995DAC88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356E01-B26C-4F95-91F6-100ADC4A789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4830B6-2128-4971-9C55-D056D86E36D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DC6F33-F033-4D16-A8A6-0CA63E3F743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61255D-3E3E-4FF7-BABA-0CD8CB728D9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37EECD-744E-4114-A89F-4A02B2ADAD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42347-3FA5-4E13-B36F-218BD739965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0FB195-59DC-4FD1-92B2-C3D82597D09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D608C8-CA8E-482B-8CA2-8EDC58F314C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9B3681-3676-4F76-86CB-7C8D24EB170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8AB8AB-97A5-4338-AB0D-C55B29D5C61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BDC13F-9E0A-4C5A-B993-95A207A7CC2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6D56CC-49B0-47B2-A5F9-B8113B90B0A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9C7506-A659-479C-BF34-94A57A0F5B2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A4DC93-19A9-4561-A4AE-6055F45C885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06F00B-7A17-4BD7-A37A-242CC96FDFC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9B31C4-6CEA-469F-844E-0EE2560D43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896E6-59AE-4401-8EA3-D73EC1ACCF8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B69C27-606B-43A5-B14A-C170BD98170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01B417-EC1F-4A02-AD06-DF9603E70D1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782306-4B26-442B-9F84-017E3C324F3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5B8FAE-AF83-42F6-9B47-5FD10459721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4BC9E5-4712-4704-A35B-672BA68508D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07183-C928-4183-9638-60CBFCA2A8C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8058B-2A38-4E0F-A3B5-25945E67895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9E2B0-9B18-4885-9470-9B4F42E8273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C3A42-2937-493F-9305-E4827EE6932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552B9-3AF7-454B-847B-CEE406D6AF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341E7-C700-4785-8FE8-665623063DC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8B34E-29B8-4FD0-8CED-590098638B3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B15A9-FA50-433E-B1F9-3970B8EF613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954F1-3FF7-4171-8DDC-B03707F8C21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7F76D-3FD8-418B-93A6-BA203656068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88B47-C9FB-45C5-B76E-728982659B8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93598-9AD6-4251-A445-E8AB581769E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64E8E-31E1-4747-BF8A-6EEF13390F2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CE6540-0C50-468C-9AAC-DF0BA0516AF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791106-1979-447E-93EE-07B05205396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F59B50-8B6F-44AC-9063-2A16BBB15A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E608-579F-4EEA-A183-6D696521586D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9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19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A73B-9242-4D69-A292-3BC49EE9EEDB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0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2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21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D00A-AACC-4B71-AD30-CD92F8DDECA8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2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5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23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BDC7-2BA1-4AEB-8212-3D524586B11B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4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09C9-9193-49B6-B417-B4B5903D32E0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5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FBDA-F632-468F-972D-55313F11B793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6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7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2F3D-CAD6-46AF-91AC-6438459AC4D4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9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F0DE-29D0-487A-B612-31E03BE7DABD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0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1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0B13-A37C-44EE-86C4-7379EF387A4D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2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3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DB24-2547-4E72-A040-1B2B3688FCAF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4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15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76F9-7E4B-4ADB-B506-FA0B0CB81111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6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17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F1DA-BA86-4B0C-88D2-4167338A4F5C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8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omaha.mt.cs.cmu.edu/90-723/PowerPoint/Main_06_Stacks.ppt" TargetMode="External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AC5B-7830-49FD-BADC-7A507DF88608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ata Structures and Algorithms for Information Process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1447920" y="4343400"/>
            <a:ext cx="6324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cture 5: Stacks &amp; Que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7" name="Object 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0574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525D-9B33-4191-A211-5CA976CDA5EB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Reversing a Word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d each letter in the word and push it onto the st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you reach the end of the word, pop the letters off the stack and print them ou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4963-5194-4FBE-A370-68E1CED3C5D8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he N-Queens Problem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ff"/>
                </a:solidFill>
                <a:uFillTx/>
                <a:latin typeface="Verdana"/>
                <a:hlinkClick r:id="rId1"/>
              </a:rPr>
              <a:t>Main sli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he N-Queens Completion Problem is NP-Complet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3202-D55C-49F9-A71A-26CE96D79A01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1" name="Picture 2" descr=""/>
          <p:cNvPicPr/>
          <p:nvPr/>
        </p:nvPicPr>
        <p:blipFill>
          <a:blip r:embed="rId1"/>
          <a:stretch/>
        </p:blipFill>
        <p:spPr>
          <a:xfrm>
            <a:off x="2666880" y="2298600"/>
            <a:ext cx="3810240" cy="2260800"/>
          </a:xfrm>
          <a:prstGeom prst="rect">
            <a:avLst/>
          </a:prstGeom>
          <a:ln w="0">
            <a:noFill/>
          </a:ln>
        </p:spPr>
      </p:pic>
      <p:sp>
        <p:nvSpPr>
          <p:cNvPr id="572" name="TextBox 5"/>
          <p:cNvSpPr/>
          <p:nvPr/>
        </p:nvSpPr>
        <p:spPr>
          <a:xfrm>
            <a:off x="1311120" y="4724280"/>
            <a:ext cx="6721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Helvetica Neue"/>
              </a:rPr>
              <a:t>Ian Gent, Christopher Jefferson and Peter Nightingal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Helvetica Neue"/>
              </a:rPr>
              <a:t>have shown that a classic chess puzzle is NP-Comple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Helvetica Neue"/>
              </a:rPr>
              <a:t>Can you complete the puzzle given that some queen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Helvetica Neue"/>
              </a:rPr>
              <a:t>have already been placed? 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4C1A-ACF1-4A45-9999-903E5B29FDFB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Queu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a queu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data structure of ordered items such that items can be inserted only at one end and removed at the other en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line at the supermark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9C46-AEF3-453E-8E56-63443022173D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Queu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can we do with a queu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queue - Add an item to the queu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queue - Remove an item from the que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book calls these insert and getFront in order to simplify thing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0147-B20F-4F5D-8B00-0C265A95A2FA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Queu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ueue is called a FIFO (First in-First out) data structu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are some applications of queu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und-robin scheduling in process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put/Output process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ueing of packets for delivery in networ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284E-3EA6-434D-BAB5-6479EADDDC61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mplementing a Queu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ust like a stack, we can implementing a queue in two way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an arr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a linked li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7EF3-368B-48D6-BE48-1D121144C187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mplementing a Queu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an array to implement a queue is significantly harder than using an array to implement a stack.  Wh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ike a stack, where we add and remove at the same end, in a queue we add to one end and remove from the oth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E793-5322-42C1-963C-A8D9D2CD69CD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mplementing a Queu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are two options for implementing a queue using an arra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tion 1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Enqueu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t data[0] and shift all of the rest of the items in the array down to make roo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equeu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data[numItems-1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AD65-F107-4C09-A8C2-5A723C8ACBE7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mplementing a Queu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tion 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Enqueu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t data[rear+1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equeu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t data[front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r variable always contains the index of the last item in the que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ront variable always contains the index of the first item in the que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we reach the end of the array, wrap around to the front agai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F73F-3D14-4D3F-84E3-53B1E1802529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tack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a Stack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tack is a data structure of ordered items such that items can be inserted and removed only at one en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 of Stack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z Dispens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feteria Tr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8949-FD39-4AE7-8569-97A6DE374FD7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mplementing a Queu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// option 2 sketch of ins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ert(Object item) 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(manyItems == 0) front = rear = 0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se rear = (rear + 1) mod size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[rear] = item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Items++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}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8991-D91F-47CC-B963-3B8A6C48426D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mplementing a Queu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// option 2 sketch of getFro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bject getFront() 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swer = data[front]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ont = (front + 1) mod size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Items--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 answ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}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C515-D92D-4FCE-985D-AEC031639860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mplementing a Queu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ich approach is bette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e that the queue has a large number of entri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best case, for both queues, what is Big Thet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he worst case, for both queues, what is Big Thet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es it make sense to talk about “cases”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9B24-A194-4C85-8D4C-BA5C6E46F21A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mplementing a Queu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ing a queue using a linked list is still eas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ont of the queue is stored as the head node of the linked list, rear of the queue is stored as the tail nod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Enqueu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by adding to the end of the li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equeu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by removing from the front of the lis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DBD9-67B7-44BD-826A-0D4EF2DED1A4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Palindrom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can determine whether or not a word is a palindrome using a stack and a que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3382-6A09-4F20-ABFB-1A7AF7F6C5F2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Palindrom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d each letter in the phrase.  Enqueue the letter into the queue, and push the letter onto the stac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we have read all of the letters in the phras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til the stack is empty, dequeue a letter from the queue and pop a letter from the stack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the letters are not the same, the phrase is not a palindro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C7A6-5272-4860-B307-E43F04F08991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Priority Queu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times we may want certain things to get to go to the front of the li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quent fliers on airli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l-time video and audio packets in networ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B8E4-7141-41A8-B8E4-78A1024B248D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Priority Queu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 priority queue, each item stored in the queue has a priority associated with i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we call enqueue, we pass the item to be enqueued and the priority associated with that i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BD73-CF1D-4547-B80C-6B111A945736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mplementing a PQ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are several ways in which we might implement a priority queu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an array of ordinary queues, one for each priority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eues[0] is the queue for priority 0, queues[1] is the queue for priority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a sorted linked li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ist should be sorted according the the priorities of the items contain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ich approach is bette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36AC-0536-48F2-BF49-FF11EB8C8DB9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hinking Exercis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re might a computer’s operating system use queu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9D45-EF0B-412A-B269-7C14507EDBBD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tack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can we do with a stack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sh - place an item on the st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ek - Look at the item on top of the stack, but do not remove 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p - Look at the item on top of the stack and remove 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D492-2452-4026-9CA6-FD868A192F61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Review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tack is a LIFO data stru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ueue is a FIFO data stru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queues and stacks can be implemented using either linked lists or arr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iority queue is a queue in which the ordering of the items is determined by the priorities assigned to th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D107-3688-4AEB-A14D-1F81E785DF59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tack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tack is a LIFO (Last-In/First-Out) data stru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tack is sometimes also called a pushdown sto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are some applications of stack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gram exec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s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aluating postfix expres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E3FE-B4F4-4F4D-B7B5-B7BA1A890F02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tack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blem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happens if we try to pop an item off the stack when the stack is empt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called a stack underflow.  The pop method needs some way of telling us that this has happened.  In java we use the java.util.EmptyStackExce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F92F-9E61-402A-B719-62042121C426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mplementing a Stack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are two ways we can implement a stack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an arr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a linked li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77E3-1199-4483-8719-89B12440FFF1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mplementing a Stack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ing a stack using an array is fairly eas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bottom of the stack is at data[0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op of the stack is at data[numItems-1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us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nto the stack at data[numItems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op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f of the stack at data[numItems-1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DB41-59AC-46B3-BC94-1910AC7C84A7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mplementing a Stack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ing a stack using a linked list isn’t that bad either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the items in the stack in a linked li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op of the stack is the head node, the bottom of the stack is the end of the li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us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by adding to the front of the li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op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by removing from the front of the li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B8D3-DB17-4B99-96A8-85923AD92337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Reversing a Word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can use a stack to reverse the letters in a wor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Michael J Mccarthy</cp:lastModifiedBy>
  <cp:lastPrinted>1999-05-23T20:28:14Z</cp:lastPrinted>
  <dcterms:modified xsi:type="dcterms:W3CDTF">2024-01-30T19:29:30Z</dcterms:modified>
  <cp:revision>31</cp:revision>
  <dc:subject/>
  <dc:title>No Slide Title</dc:title>
</cp:coreProperties>
</file>