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E56-CE81-42BA-B1C7-387D504DB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6942-DF5B-45B9-8196-DD6963BB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3B3-5605-4CA7-9295-57926872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3397-757E-4DEC-9687-B99A6A3D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A8BA-B51E-4FA1-9588-C841D31F9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45FC-D611-42B2-A942-0683636BE79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80B7E-7E05-4258-A1B0-7C3908865E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2BDA3-F8F3-42F7-BA97-71185E6431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AF00F-8174-41DE-AA56-04158F6DC1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85CAA-595C-4B50-B822-30D4C6D3A1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8CC6F-B1BE-494A-B14A-C1AC0DCEDD7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D1241-02F4-42B3-A8CF-0D6A9F93EC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3DB25-47E2-4450-A11B-7B70B5F38A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45537-FBB7-4278-A36E-14CD940412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0C57C-2F20-4D2E-8033-6EBEB60DD3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DE81BC-7006-495E-AEA4-1F6D69422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435A-D5CD-4887-A44C-DF38E9DA60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26F65C-CC26-447C-863C-337435C0427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0940F-E844-4C6C-A374-F0877ABB937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0D006F-C88C-46DE-AD74-912AAABD03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D40D97-ADAA-4E3A-ADBA-5D6B87858B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42A32D-40A5-4D68-A212-2B1CCA743D6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9DF900-4205-4F1F-AA3C-05C94C315CA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982619-5F2F-4ABA-9439-4871A094C5B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63E01F-D88D-4CB4-8614-8EADE86147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8153C9-C389-4CBB-9880-70DD08F986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C4AB0-42BD-4658-81FC-EC262122C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6E48-9A37-4C09-9939-CCE1999B856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1F5AF1-1C09-4283-9F1B-83A2641F5E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84E5-5512-4159-BEA8-2C73A8AD235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F04B3-7CE0-49FF-A795-B55146F1DF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84B46-611D-4504-A094-FB8691FD4B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8711-027A-4B9A-8637-3DB4010CFDF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6AC6-426B-4DA6-902B-96191A27ADC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6EAC0-CD2B-4A48-8CB0-11FC167F02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3D51-053C-48D3-B1AD-97975306B0A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1FBC-8D01-4637-BBD8-3FF4E0BB2A0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09560-FFDD-4A83-BACF-A43239A08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1C6-82CA-45ED-BE91-F622AD68E4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7FB4-976B-4906-8FFA-C6AB3011200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FA66-2EED-47B6-B425-E09CD7D755D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04AE-A9BF-4A4F-BD5B-27F4A71A9D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B2AD0-E8A7-4D2A-BED2-99EC8C7723C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9A177-94C5-4435-A056-8317F59ED1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6DEFB-726E-4ACD-B4DA-79C1778D6C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87701-C2DC-4D88-9130-70C115B8E9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394F4-D389-4EB2-8217-6E41C22D030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FA8AB-015B-4785-B286-13FD3D9305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B2E20A-14AA-4206-AF5D-2F4A581C59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6CC-3249-4579-AE2C-D84993CB030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3DFC9-56F1-4F7C-8B5B-62273E0D930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560167-5BF4-43B1-9E0D-229A1FEA1E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C9CD5-FDD3-4D0B-8B52-71D536D5773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925CD9-82CC-496B-AB0F-BEC2CC43D38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F5C5AD-3D53-4843-B70E-42396C10EE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488-9E6A-4DC2-A81D-7A40E0D5DE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A5B-8818-42C6-8F11-B1C1328B55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A8D-F774-4205-A42B-D56DD8BF2C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A69-8323-4CE4-A763-B3ABFFF4FC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A34-7641-4DEE-B8D7-1D08691001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44F0-CBB5-4F9B-8440-72ACD9810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3A0-48E2-474B-9202-07866C620E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D17-49ED-4291-8810-595770A1D0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484-08C0-4BBC-AE46-124804559B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464-F50A-4A3E-A777-B38F89567D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45D-24AE-4A3A-B9CC-8603B91C37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B3BBA-05FA-4F95-9308-2AC0A06C5E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4507D-41CF-4865-9DA0-E383915510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B9903-BA71-49B8-8C75-2B1963C481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E89D3-2D6C-43C6-B08A-6F5EFFCC9A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D7568-319A-4B6B-B230-7CB85D3CE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CF89-936C-43BC-B4A3-42A9DC7A5A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41401-F78F-46FF-8F32-E9E70F3253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1A9DF-0B24-47DC-B1EF-A8514A0607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236DA-4E31-4F0C-8E68-545BE4E159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DBA54-4EFC-4686-A0B9-C9A9831B5E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96FAB-9A24-4B26-BD2B-48801D112C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C238E-0D1F-4CAE-AD53-4BA4415AA2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BF55F-FB8D-4821-8514-9CA1ACD9C1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366BC-338A-46BC-B8FE-B54396A12D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63B64-E40B-41EF-A1DA-EE6A04F290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626ED-3977-4CA4-97F7-5FD5C9B54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BC33-D703-4CFE-AD61-0FCBF897E5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CB15B-8ACD-4E92-870E-A9D9582C1E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8F0C4-1B74-489B-97E3-DEB1969C01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8E78F-1FC8-4D2D-987D-22DC6E786B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09F33-B679-4577-BC0C-51B6ADB002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D639D-DD1F-4F1B-8C3A-FFFC7B9C64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2EFF1-B6E1-4564-BE39-0944F60A32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71C3B-5C77-4997-BF44-74656F6520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6D6D8-EB6F-4620-AFF5-3278696775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9AFF6-7422-4C49-B902-5DE7AFE023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8E65-F33D-43FB-A341-EC5479416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0515-5F1D-4B67-9751-CA8F4083DD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659F-755E-45DE-B1C1-320C883269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6BB0-AF5B-4FFD-902A-44C2490529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04ED-79E4-4816-AC7E-11F448208C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58FE-2CE8-4C7C-B7B6-9F87126930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25DF-62C1-4399-BC53-FA8E129945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E54E-0715-48B7-8EA6-EE7EDC68CC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4C1F-483C-419E-B47A-8CC10A3A92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E1FF-AB47-4B0F-9FA7-BF7DF0D36B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8D61-740C-4C94-8097-CF6859E4F8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05A3-38F4-4026-8B4A-BAF8A3119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F84E-7DEF-49EE-9DF9-9E34D41C63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F71A-F896-4B3A-B317-61C905FE53D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00CA9-F44F-47BC-952D-9D9C4CBFF0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5419A-1AD9-4E40-A623-840313BCB8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1220B-4695-46DF-99E0-D1C1B75FAD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6D267-CDE4-433F-8DB3-0B982C6DCB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4A70A-41B3-465A-B1DD-02562D521E2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CDECF-23A5-400D-AAD6-20B3B3CFF6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2D53D-AB98-46EB-821D-698013324D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25BC4-C0CC-4A49-AD40-4A18B3818BB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87DD4-8FA7-4387-B67D-34D1213D8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87CA-842D-4D43-AF46-39A2603983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0501E-AE14-465D-8002-9D1A2D4316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4884B-5D41-4321-925B-D893CF8473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56846-24A1-40A9-9372-962889A65C7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8DBEF1-5FA4-4B8F-B49D-9287BFE5EC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E257F-686A-4A7D-88AD-9DDEED98B5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9880BC-375E-4EE5-BB91-F91C56A7DF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EA8B72-289C-4463-AF42-0267FB13D2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E0773-00AB-46CD-BA6C-00E8AC42F5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BD5359-C3BB-4CEC-B314-30664AC6BC3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85930-C46F-43A4-BC4C-099B22EFF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28B2-9625-4E2B-94B7-60F578CB85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A18E87-E313-44EB-8D88-53E176AC0F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C8C0F9-F7EA-476D-B14A-2CBB656FA3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876D4-44F9-4470-9C9D-95723B7E03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7E872B-8973-41F6-8704-17DDBCDCC2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D53037-9840-4F49-A35F-83AE12B1C0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F9EDD-1FE6-49AD-8D84-A18F79F9EA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20740-5808-4A06-AF93-A9D0DE19ACE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9EBD-0F82-41FF-9038-74F5E884AF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A7DB-346A-40E9-92A6-89FB6E7394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10D6-E32F-464D-BA66-1EB38F448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8CB7-4541-4135-AE70-ED3792FB78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361F-7801-4B32-B5B6-385E79636CA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5612-3F95-4FF6-BADE-B930E7CA73F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2D38-6A2C-466F-B505-393C6F6CF6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86DF1-A8D2-47F5-BF07-5F9D229C72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5A47-8E20-4BD6-85A2-A57A94DC92B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664C-9E59-4E19-AB35-400DBC462D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4BC6-5A43-40BB-B012-B39DA72641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FCF7E-8CAA-4D96-AEFB-DB410863C3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97210-FF69-4636-99CB-6CECF6B7B9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C1B0F-4602-4638-B7E1-936C58E2E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C055-5D1A-4371-85A6-F5BB0A77646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897-B753-44CA-9CAD-3D6902D49F8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044D-C859-47D9-AD67-73E65406E33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611A-F37A-46B4-8D2E-6B6A53DA6F9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5397-1EE4-4F77-84C5-2F194393230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4814-93EF-4979-9850-DD2C7FE81B4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09CF-B1DD-47F1-9CCE-CC6A86DC846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CD9-0601-4318-A384-FAD5E465370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C4B5-F883-4944-9B04-44CF271FCDA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183-13F0-4F12-AD7B-295E162A469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82DD-AE2A-4172-BFD6-BA0564735DA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AAE-82DF-42E7-9885-67EED87D541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maha.mt.cs.cmu.edu/90-723/PowerPoint/Main_06_Stacks.ppt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46C2-2190-45FB-8AA2-67C12D39714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5: Stacks &amp; Que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04F9-14D0-4C26-8CE9-1FFC2BEFA47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ersing a Wor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each letter in the word and push it onto the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you reach the end of the word, pop the letters off the stack and print them o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0E36-20BC-4757-BCC1-1FB5A384ADB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N-Queens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Main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N-Queens Completion Problem is NP-Complet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4F1C-08C2-4A99-9EAC-DC5DD0A641E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2666880" y="2298600"/>
            <a:ext cx="3810240" cy="2260800"/>
          </a:xfrm>
          <a:prstGeom prst="rect">
            <a:avLst/>
          </a:prstGeom>
          <a:ln w="0">
            <a:noFill/>
          </a:ln>
        </p:spPr>
      </p:pic>
      <p:sp>
        <p:nvSpPr>
          <p:cNvPr id="572" name="TextBox 5"/>
          <p:cNvSpPr/>
          <p:nvPr/>
        </p:nvSpPr>
        <p:spPr>
          <a:xfrm>
            <a:off x="1311120" y="4724280"/>
            <a:ext cx="672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Ian Gent, Christopher Jefferson and Peter Nightinga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have shown that a classic chess puzzle is NP-Comple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Can you complete the puzzle given that some quee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Helvetica Neue"/>
              </a:rPr>
              <a:t>have already been placed?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E80F-5D6B-4DD2-A4E1-417B81184D9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a queu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ata structure of ordered items such that items can be inserted only at one end and removed at the other 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ine at the supermar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D3ED-AAAE-4DE2-BC6E-37A6206EEC9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an we do with a queu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queue - Add an item to the queu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queue - Remove an item from the que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ok calls these insert and getFront in order to simplify thin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3B73-5064-4420-9512-37355FF6B3A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eue is called a FIFO (First in-First out) data struc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some applications of queu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nd-robin scheduling in 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/Output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ueing of packets for delivery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52C4-D192-4B08-9A92-DC2593EC8D3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st like a stack, we can implementing a queue in two way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n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2ADB-FA79-4531-8C26-342CDC80448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n array to implement a queue is significantly harder than using an array to implement a stack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ike a stack, where we add and remove at the same end, in a queue we add to one end and remove from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3D7-AA3E-4A6B-8E65-33747D08662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options for implementing a queue using an arra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data[0] and shift all of the rest of the items in the array down to make roo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data[numItems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5390-BB8F-476C-8F5D-31E43248B59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data[rear+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data[front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r variable always contains the index of the last item in the que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ont variable always contains the index of the first item in the que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e reach the end of the array, wrap around to the front ag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9FE-964B-4864-9D32-166A14DF4C3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a Stack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a data structure of ordered items such that items can be inserted and removed only at one 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Stac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z Dispen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feteria T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C682-DFAD-4A64-99F5-A2C7372FE93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/ option 2 sketch of ins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(Object item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(manyItems == 0) front = rear = 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se rear = (rear + 1) mod siz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[rear] = item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Items++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}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020C-8D1D-4635-AF7A-3677C96D768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/ option 2 sketch of getFr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 getFront(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swer = data[front]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nt = (front + 1) mod siz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Items--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ans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}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5AB1-758A-410D-A1A2-DFFA30E6E2D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approach is bett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at the queue has a large number of entr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best case, for both queues, what is Big Thet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worst case, for both queues, what is Big Thet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it make sense to talk about “cases”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82FB-932A-4ECC-8851-FCBECCD2172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Queu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a queue using a linked list is still eas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nt of the queue is stored as the head node of the linked list, rear of the queue is stored as the tail n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adding to the end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que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removing from the front of the li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8648-E9FF-47E4-8920-EC9F3DC83DF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alindrom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determine whether or not a word is a palindrome using a stack and a que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B63F-4330-4E34-B76F-816B2532F3A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alindrom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each letter in the phrase.  Enqueue the letter into the queue, and push the letter onto the st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we have read all of the letters in the phra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til the stack is empty, dequeue a letter from the queue and pop a letter from the stack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letters are not the same, the phrase is not a palindr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81BE-09F7-4F09-B992-DC1520CBB1F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ority 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we may want certain things to get to go to the front of the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t fliers on air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-time video and audio packets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E68B-1F1C-4173-AEB2-2FA92EEF9C7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iority Que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priority queue, each item stored in the queue has a priority associated with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e call enqueue, we pass the item to be enqueued and the priority associated with that i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749-38D7-467B-ABBD-943560DA352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PQ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several ways in which we might implement a priority que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n array of ordinary queues, one for each priority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ues[0] is the queue for priority 0, queues[1] is the queue for priority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sorted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st should be sorted according the the priorities of the items conta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approach is bett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E469-FE6D-4580-929A-76AEDD09C93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inking Exerci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might a computer’s operating system use queu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591-D519-4A87-ADB8-E534F50D1E2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an we do with a stack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 - place an item on the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ek - Look at the item on top of the stack, but do not remov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p - Look at the item on top of the stack and remov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45AC-5751-43E6-A2F2-E3CCA5FD5C3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iew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a LIFO data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eue is a FIFO data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queues and stacks can be implemented using either linked lists or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iority queue is a queue in which the ordering of the items is determined by the priorities assigned to th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1937-470D-4778-A420-9A3B2E73E50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a LIFO (Last-In/First-Out) data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tack is sometimes also called a pushdown sto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some applications of stack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ng postfix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89F-6A01-4153-B87B-28595F51F39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happens if we try to pop an item off the stack when the stack is emp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a stack underflow.  The pop method needs some way of telling us that this has happened.  In java we use the java.util.EmptyStack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207-E798-4965-A341-3C519DDFB71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Stack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ways we can implement a stac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n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C67B-7A07-4ABC-B101-C49F7819938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Stack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a stack using an array is fairly eas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ttom of the stack is at data[0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 of the stack is at data[numItems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to the stack at data[numItems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 of the stack at data[numItems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5A5-3866-492B-AFC8-E57F2EC011D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ing a Stack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a stack using a linked list isn’t that bad either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the items in the stack in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 of the stack is the head node, the bottom of the stack is the end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adding to the front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removing from the front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7F1-53FF-412A-A620-0C71A1D6F7E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5: Stacks and Que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versing a Wor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use a stack to reverse the letters in a wo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J Mccarthy</cp:lastModifiedBy>
  <cp:lastPrinted>1999-05-23T20:28:14Z</cp:lastPrinted>
  <dcterms:modified xsi:type="dcterms:W3CDTF">2024-01-30T19:29:30Z</dcterms:modified>
  <cp:revision>31</cp:revision>
  <dc:subject/>
  <dc:title>No Slide Title</dc:title>
</cp:coreProperties>
</file>